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0E3-5EEB-459B-AD4A-10D08985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266-AE90-4A2C-A66D-7AA83307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A48-CAB4-485D-A762-19429288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A2E3-0258-4B0F-9DCA-8D8EB8B8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0CEF-18A8-443F-A8C0-9D0888AC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A4C5-7603-4CA7-B236-C7E28223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60BD-1B4E-487E-B149-CD148415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388F-7082-4BB3-AE3C-3055C176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423B-B4E6-47BA-ACAE-6A7CD8C6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1E1F-5254-4C27-8930-35F47727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3B86-341A-4C18-B278-D99BA83F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499-6B7D-4335-A776-2A38F0D0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2392-C9B9-43B7-B673-124CA878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DA9E-3AB9-44EE-82A9-532BED27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518C-D621-475A-BA6F-099D4765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0251-C97E-4B95-BA92-3FD31889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3125-D6DF-413C-9BF9-434EE404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7129-97DE-41B5-8DFB-D006BB64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72873-3CED-4695-A460-C950FFF1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0FEA-6D18-4F92-A575-88B57C6F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142D6-0C9C-4380-9F38-EA4BF284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B6CB0-9234-48DF-A313-DA662B35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DD6-289D-4B0B-A54F-933CB0F0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CAFD0-2F8C-4C01-94BD-64403D08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17506-92CC-423C-A842-F9C0D99B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02482-EC50-41DC-95D8-BC9B55FA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69CCE-F93A-4A14-B97D-C6DE352D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42125-D32F-4A40-9894-A271964F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D72AB-2341-47FA-AFF6-624AF155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E724-0982-405D-99A2-DF5EBE70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6B3C1-E283-4D9A-A305-190420DF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76EC8-E4D2-46DA-83E8-7B725221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DC68F-1B9E-4573-AACF-12D069AA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074-5592-4609-9276-175A31BB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A292-16F6-4470-B7DF-B1013774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BC218-08B7-43FD-BD2B-30653D6B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1773A-000F-4322-9F63-A5215639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50D1A-68CC-41D7-85D2-BFC29C90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E0F20-36B4-4027-B3BF-7FBE4470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FC168-6341-4000-A602-7FBBF080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8E28C-CEEC-4D1F-863A-5CAA0768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4DEDB-1011-440C-AB65-6173D097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4E28A-7EF9-4ABD-999F-E35E8D26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26057-8DB3-4E38-B26A-036D9829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746-3376-4E77-ADFE-53C71BBD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02A9B-C4FE-4B10-98A3-997C417F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4A876-3087-4A8F-A790-276FB13D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4FCC8-2D1E-42DF-B811-6D83BB8D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4F1EA-6538-4322-BB47-13206E1B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6B7A7-E958-40FD-9F63-6C07BDB5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BC306-2D14-44C3-9636-3E62AC23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9C83F-71A6-4F83-8D19-126E5128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C4A30-0C99-4C29-BCD3-9AAE98B1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896A3-FE2D-406F-BE24-512C91EC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F2629-1213-4122-9F83-A1E641DF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E2C-2903-4373-82EA-20AEC0CD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C55FF-6AF1-49A7-9B3E-888E02FB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1FBE9-7892-4D48-A6A8-C503FC21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6CCE1-70E4-40C9-BA6E-1013AEA2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BF4B7-4ED9-4098-A4DF-216D504A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EEECF-EA4F-4886-B072-E1DC5812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A6403-F21E-460F-96A9-FA0A16E4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22353-6FAE-438F-856D-0D4383C9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E4CDA-00EE-4C4A-BBBB-32B64A3B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775F5-2F5C-4C62-9530-83D23747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B9025-0611-4158-A51D-632D077A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30D7-7904-4977-BBAA-F5331655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4D2FF-F040-4524-AB1B-0755D911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30DEA-16D2-45E6-865C-73F0E5A9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29BC0-3696-441A-814E-D7B5AA68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C8112-DB6E-4397-B4E1-185D7F62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300B2-E48F-488F-8564-1EB8EB8A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5D060-189A-4049-B6BA-370C2D55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E7904-1431-444C-8DDD-3B689721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B450C-13C6-463B-82D5-15448644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153EC-BC7B-4140-A981-C0EA20E2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614E6-60B7-4EC3-B773-6C84EEAB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5CB-992F-4BB7-BA77-12E1370A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28A40-416F-4D86-8DBD-6CD3AC7B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3158A-1AD8-4EEA-84C1-D587EAB4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DDD34-AA70-4AB3-8B3E-9368898A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4C98A-2A66-49DD-8C61-ADCC0652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6BA4E-47DA-41A7-A6DC-6594AB5D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16B7-7232-48D3-AF1D-8D280D63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5978-C0BB-463D-A385-9D2B09DB47BA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7FCA-4885-4DCA-BA93-F6059A6BE352}" type="slidenum">
              <a:rPr b="0" lang="en-N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0380-FA03-4927-AF52-372886CA243E}" type="slidenum">
              <a:rPr b="0" lang="en-N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E7F0-FB11-41DF-9543-82CF294D2523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8F87-A7C1-4977-A6C7-9E38EC3DA512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6A15-3A7D-4C4B-8B41-923CC1E3F3AF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7913-F52A-4F5C-B476-D6EA44ABBE0E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3157560"/>
            <a:ext cx="808992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Corbel"/>
              </a:rPr>
              <a:t>By Wilson,Lok,Davi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Lok , Wilson ,Davi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Built a Kaikorai Catchment Simulation Calculat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A trip to the Kaikorai Catch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Meeting with Sam and Hamis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DSC02559.JPG"/>
          <p:cNvPicPr/>
          <p:nvPr/>
        </p:nvPicPr>
        <p:blipFill>
          <a:blip r:embed="rId2"/>
          <a:stretch/>
        </p:blipFill>
        <p:spPr>
          <a:xfrm>
            <a:off x="2571840" y="342900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Basic mod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Planned out how each value will effect each are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Getting Data to change each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3" descr="DSC02562.JPG"/>
          <p:cNvPicPr/>
          <p:nvPr/>
        </p:nvPicPr>
        <p:blipFill>
          <a:blip r:embed="rId2"/>
          <a:stretch/>
        </p:blipFill>
        <p:spPr>
          <a:xfrm>
            <a:off x="5643720" y="4214880"/>
            <a:ext cx="3119400" cy="2340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table_view.PNG"/>
          <p:cNvPicPr/>
          <p:nvPr/>
        </p:nvPicPr>
        <p:blipFill>
          <a:blip r:embed="rId3"/>
          <a:stretch/>
        </p:blipFill>
        <p:spPr>
          <a:xfrm>
            <a:off x="928800" y="4214880"/>
            <a:ext cx="392904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Two Final Produc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One that users a macro and another one that uses Visual Bas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3" descr="Loks calculator.jpg"/>
          <p:cNvPicPr/>
          <p:nvPr/>
        </p:nvPicPr>
        <p:blipFill>
          <a:blip r:embed="rId2"/>
          <a:stretch/>
        </p:blipFill>
        <p:spPr>
          <a:xfrm>
            <a:off x="642960" y="3714840"/>
            <a:ext cx="3857760" cy="2770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Wilson Calculator.jpg"/>
          <p:cNvPicPr/>
          <p:nvPr/>
        </p:nvPicPr>
        <p:blipFill>
          <a:blip r:embed="rId3"/>
          <a:stretch/>
        </p:blipFill>
        <p:spPr>
          <a:xfrm>
            <a:off x="5072040" y="3571920"/>
            <a:ext cx="37004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How we di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What we would impro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rbel"/>
              </a:rPr>
              <a:t>Scenari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rbel"/>
              </a:rPr>
              <a:t>Comparis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rbel"/>
              </a:rPr>
              <a:t>Goal See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00:45:38Z</dcterms:created>
  <dc:creator>FIRMIDM1</dc:creator>
  <dc:description/>
  <dc:language>en-US</dc:language>
  <cp:lastModifiedBy>FIRMIDM1</cp:lastModifiedBy>
  <dcterms:modified xsi:type="dcterms:W3CDTF">2009-11-20T02:17:15Z</dcterms:modified>
  <cp:revision>4</cp:revision>
  <dc:subject/>
  <dc:title>Kaikorai Catchment Simulation Calculator</dc:title>
</cp:coreProperties>
</file>